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799A-4350-4D9C-A23A-9B529AD32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E585-8F91-4D2F-BDBA-C860211B7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CCDA-C628-4FEC-9FCC-CC11B8E50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D5B4-1B14-41F0-9E58-1BEC3D7CD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71D7-95BE-434A-917D-A49DC31DA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3A70-8554-472F-84EF-3D9178B5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E8AD-0B22-4EA4-A7CA-8FFB73BA3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97EB-B71B-43C7-AAD6-2C484FA56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31CC-FB2E-4E10-96BB-A4DFA28F2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2093-B990-48BE-9DB1-AE923BD0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69D1-8B5B-4D87-9F60-710394A0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7BCE-05A0-4EC6-905C-7ADEC7E4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52D29-19FC-4748-B9B9-7A8F6B4656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_ Clase 8 NV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5 de diciembre del 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Propósito # 21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ómo repasamos para el Examen del capitulo 6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ubject pronou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 you use in the following situ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talk about your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talk to the director of a colle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talk to a group of teac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’re a boy and you’re talking about yourself and a group of frie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’re taking to your best fri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’re a girl and you’re talking about yourself an a group of your girlfrie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98200" y="3200400"/>
            <a:ext cx="6332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98200" y="3733920"/>
            <a:ext cx="752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565240" y="4114800"/>
            <a:ext cx="950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90160" y="4952880"/>
            <a:ext cx="1739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oso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22440" y="5257800"/>
            <a:ext cx="613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04200" y="6338880"/>
            <a:ext cx="17215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osot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 pas_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ú pas _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d pas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Él pas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la pas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sotros 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tedes pas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los pas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02360" y="1600200"/>
            <a:ext cx="397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78320" y="2209680"/>
            <a:ext cx="577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78320" y="2743200"/>
            <a:ext cx="378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49720" y="3352680"/>
            <a:ext cx="378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54280" y="3962520"/>
            <a:ext cx="378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83960" y="4495680"/>
            <a:ext cx="1108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93440" y="5105520"/>
            <a:ext cx="595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3600" y="5638680"/>
            <a:ext cx="595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scucha y escrib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104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41320" y="1371600"/>
            <a:ext cx="22730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llos hab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43480" y="1981080"/>
            <a:ext cx="3439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osotros entr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42760" y="2514600"/>
            <a:ext cx="3559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os animales pas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2971800"/>
            <a:ext cx="5486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a muchacha ca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3505320"/>
            <a:ext cx="4343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os hombres trabaj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4038480"/>
            <a:ext cx="4267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sted comp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18720" y="4648320"/>
            <a:ext cx="21740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Yo escu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40960" y="5257800"/>
            <a:ext cx="17215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ú bai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17640" y="5715000"/>
            <a:ext cx="2116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Yo prac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95400" y="6172200"/>
            <a:ext cx="36752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l profesor pregu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6868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________ habla Quchua en Per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________ contesto al poli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________ compras muchos rega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________ deseamos muchos rega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________ entro a la clase a tiem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________ estudian poco para el exam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________ trabaja en Taco B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________ usan la computado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________ pregunto poco en cl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_______ visitas a tus padres en la nav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16920" y="2362320"/>
            <a:ext cx="6332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91800" y="1828800"/>
            <a:ext cx="8132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69560" y="2819520"/>
            <a:ext cx="613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7120" y="3200400"/>
            <a:ext cx="17215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osot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69200" y="3733920"/>
            <a:ext cx="6332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16920" y="5638680"/>
            <a:ext cx="6332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69560" y="6095880"/>
            <a:ext cx="613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68120" y="4648320"/>
            <a:ext cx="515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É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3920" y="4191120"/>
            <a:ext cx="10296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l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39520" y="5105520"/>
            <a:ext cx="10112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l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usar: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Yo 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Trabajar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ú 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Contestar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él 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Preguntar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la 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Escuchar: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usted 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Visitar: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nosotras 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Practicar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stedes 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Pasar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ría y Juana 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Entrar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lberto y yo 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Bailar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ría y Pedro 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126960" y="1523880"/>
            <a:ext cx="811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78880" y="2133720"/>
            <a:ext cx="1546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rabaj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32600" y="2590920"/>
            <a:ext cx="16437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onte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37880" y="3124080"/>
            <a:ext cx="1700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regu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67560" y="3657600"/>
            <a:ext cx="38552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(el bombero) escu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041000" y="4267080"/>
            <a:ext cx="18219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visit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18760" y="4724280"/>
            <a:ext cx="433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(la profesoras) practi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5181480"/>
            <a:ext cx="25146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(ellas) pas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6640" y="5638680"/>
            <a:ext cx="17809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ntr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45920" y="6172200"/>
            <a:ext cx="23554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(ellos) bai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1920" y="914040"/>
            <a:ext cx="853452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 Yo _________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speak)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españ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2. Tú _________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work)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uch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3. María ________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dances)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bi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4. El muchacho ________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sings)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en españ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5. Nosotros ________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buy)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muchas cos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6. Mi padre ________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wants)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visitar la escue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7. Ellas _______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enter)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en la cl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7631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Los alumnos _________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study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n la escue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 El perro _________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passes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r el parq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 Ustedes _________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practice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as lecc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. Yo ________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visit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la profeso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. Tú ________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listen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n la cl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. Pedro y yo _________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answer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. Yo __________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use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l dicciona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. Ricardo _________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asks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un ami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10 questions with 10 answers using all of the subject pronou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¿Visitas (tú) a tus abuelos en navida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, (yo) visito a mis abuelos en nav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0T15:45:03Z</dcterms:created>
  <dc:creator>Helen Zumaeta</dc:creator>
  <dc:description/>
  <dc:language>en-US</dc:language>
  <cp:lastModifiedBy>NYCDOE</cp:lastModifiedBy>
  <dcterms:modified xsi:type="dcterms:W3CDTF">2011-12-05T15:30:46Z</dcterms:modified>
  <cp:revision>8</cp:revision>
  <dc:subject/>
  <dc:title>Me llamo _________ Clase 10 NM La fecha es el 20 de octubre del 2011</dc:title>
</cp:coreProperties>
</file>